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A569-0B34-4BFE-BF03-A56F494FB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5770-9C37-46EE-B1A3-611CDD736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A128-6AEB-4A37-9D8F-7AE5F6200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B1A7-2B3B-4E6E-8F9E-AB3EF23C8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AEDB-4C88-42CB-A7D0-574F4B504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AD2E-F174-409B-A70D-5D565A554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4675-6F93-4A3D-9280-D14824BAF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DB2B-77D5-4A1E-9AE0-0F9525030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806B-A69B-473D-87C2-8AB0F1FF0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D8FB-66FB-4F90-9A26-57A4B5E0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A1E5-2E73-4034-80B8-DFA56BA8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6D40-8A58-4896-96FD-1E2AE5F8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1A740-4E6A-4DDB-92DE-4279FED810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здание игр для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X Spectr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ексей Астафьев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k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aider Flash in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восибирск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гровой цик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шина крутится в цик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ин оборот цикла = 1 кван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едовательно решаются все задачи (вызо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цедур через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к как цикл выполняется быстро, возникает иллюзия одновременного испол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цедуры должны быстро выходит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ипичный игровой цик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следовательные задачи цик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вод от игрока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S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акция на игрок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LOG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едвижение монстро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рисовка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 это выполняется постоянно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~25h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рисов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рисовка выполняется постоян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сь экран (или игровая зона) постоянно полностью перерисовывается, обновляе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граммирование лог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цепция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ite State Machine (FSM)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ли Конечный Автомат Состояний (К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te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оян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1?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лать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изменить состояние н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йт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te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ояния =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о делать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изменить состояние н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йт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te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ояния = 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о делать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йт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492360" y="1484280"/>
            <a:ext cx="2232000" cy="100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302000" y="981000"/>
            <a:ext cx="486000" cy="43200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42920" y="3500280"/>
            <a:ext cx="1513080" cy="12240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771640" y="3500280"/>
            <a:ext cx="1513080" cy="12240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0" y="3500280"/>
            <a:ext cx="1512720" cy="12240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372360" y="3500280"/>
            <a:ext cx="1512720" cy="1224000"/>
          </a:xfrm>
          <a:prstGeom prst="flowChartProcess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8757800">
            <a:off x="1937520" y="476784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18805200">
            <a:off x="3521520" y="483912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1928400">
            <a:off x="5148360" y="479736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3295200">
            <a:off x="6499080" y="4707000"/>
            <a:ext cx="486000" cy="1263600"/>
          </a:xfrm>
          <a:prstGeom prst="downArrow">
            <a:avLst>
              <a:gd name="adj1" fmla="val 50000"/>
              <a:gd name="adj2" fmla="val 6500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1763280" y="2349360"/>
            <a:ext cx="1871640" cy="1008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564000" y="2492280"/>
            <a:ext cx="720720" cy="93672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2565360"/>
            <a:ext cx="43344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580000" y="2349360"/>
            <a:ext cx="1656000" cy="100836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565080" y="1773360"/>
            <a:ext cx="205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 = A,B,C,…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781800" y="404640"/>
            <a:ext cx="7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45080" y="3573360"/>
            <a:ext cx="142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бо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мена н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845440" y="3573360"/>
            <a:ext cx="142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бо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мена н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45440" y="3573360"/>
            <a:ext cx="148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бо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мена н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734880" y="393372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65640" y="423720"/>
            <a:ext cx="18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=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. уров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=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г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= Game 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 = 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50000" y="5969160"/>
            <a:ext cx="9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ы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61080" y="476280"/>
            <a:ext cx="209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byte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остоя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ж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ложенные 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огда удобно вводить в какой-то ветке состояния вложенный под-автомат, то есть под-состоян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 St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 Sub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ревовидная, вложенная струк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ждый КА обрабатывает только себ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аче – комбинаторный взрыв состоя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бработка состоя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твь автомата выполняет задачу обработки состояния. Если нужно, изменяет состояние и выход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бегат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усты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боток, т.е. только изменений состояний на состояний – должна быт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мененное состояние отработает в следущем игровом цик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добно откуда-то наблюдать за состоянием КА. Например – определить чт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me Over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л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evel Comple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ульное, блочное разбиени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д разбивается на блоки-модули (процедур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ызываемые по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биение диктуется не че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бо (регистры, команд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тимизация..), а только строго логической необходимостью (абстракцией, архитектуро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заимодействие логических бло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огические блоки ничего друг другу не передают и не посылаю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локи работают н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ще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бластью памяти – состоянием машины иг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локи выполняются последовательно и иерархически (из блока бло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локи пишутся независимыми друг от дру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едует избегать зависимости от очередности исполнения блоко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 не всег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изайн бл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лок как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рный ящи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lackBo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ите что на входе блока (какие переменны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ите что на выходе блока (какие переменны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ите ЧТО с ними делает бл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ите код блока (КАК делае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бстрак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ектирован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ранее – ключ к успеху (строительство зданий без архитектор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проектировании разбиваем на жесткие блок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дул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и, каждый со своей конкретной задач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ить какие модули понадобятся (меню, логика игры, графика, музыка, дис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ил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дуль должен выполнять свою и только свою задач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икогда не решат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ужие задач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улы (наборы) объек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ъекты объединяются в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ул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.е. массив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ждый объект составно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0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лаги бит активен д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т,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1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д объ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2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ояние (идет, стреляет, погибае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3,4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ордин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5,6,7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четч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900000" y="404640"/>
            <a:ext cx="2376720" cy="648000"/>
            <a:chOff x="900000" y="404640"/>
            <a:chExt cx="2376720" cy="648000"/>
          </a:xfrm>
        </p:grpSpPr>
        <p:sp>
          <p:nvSpPr>
            <p:cNvPr id="110" name=""/>
            <p:cNvSpPr/>
            <p:nvPr/>
          </p:nvSpPr>
          <p:spPr>
            <a:xfrm>
              <a:off x="900000" y="404640"/>
              <a:ext cx="2376720" cy="648000"/>
            </a:xfrm>
            <a:prstGeom prst="flowChartProcess">
              <a:avLst/>
            </a:prstGeom>
            <a:solidFill>
              <a:srgbClr val="eaeaea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118160" y="549360"/>
              <a:ext cx="966960" cy="3682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bjec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900000" y="1125360"/>
            <a:ext cx="2376720" cy="648000"/>
            <a:chOff x="900000" y="1125360"/>
            <a:chExt cx="2376720" cy="648000"/>
          </a:xfrm>
        </p:grpSpPr>
        <p:sp>
          <p:nvSpPr>
            <p:cNvPr id="113" name=""/>
            <p:cNvSpPr/>
            <p:nvPr/>
          </p:nvSpPr>
          <p:spPr>
            <a:xfrm>
              <a:off x="900000" y="1125360"/>
              <a:ext cx="2376720" cy="648000"/>
            </a:xfrm>
            <a:prstGeom prst="flowChartProcess">
              <a:avLst/>
            </a:prstGeom>
            <a:solidFill>
              <a:srgbClr val="eaeaea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118160" y="1270080"/>
              <a:ext cx="966960" cy="3682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bjec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900000" y="1844640"/>
            <a:ext cx="2376720" cy="647640"/>
            <a:chOff x="900000" y="1844640"/>
            <a:chExt cx="2376720" cy="647640"/>
          </a:xfrm>
        </p:grpSpPr>
        <p:sp>
          <p:nvSpPr>
            <p:cNvPr id="116" name=""/>
            <p:cNvSpPr/>
            <p:nvPr/>
          </p:nvSpPr>
          <p:spPr>
            <a:xfrm>
              <a:off x="900000" y="1844640"/>
              <a:ext cx="2376720" cy="647640"/>
            </a:xfrm>
            <a:prstGeom prst="flowChartProcess">
              <a:avLst/>
            </a:prstGeom>
            <a:solidFill>
              <a:srgbClr val="eaeaea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118160" y="1989000"/>
              <a:ext cx="966960" cy="3682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bjec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900000" y="2565360"/>
            <a:ext cx="2376720" cy="647640"/>
            <a:chOff x="900000" y="2565360"/>
            <a:chExt cx="2376720" cy="647640"/>
          </a:xfrm>
        </p:grpSpPr>
        <p:sp>
          <p:nvSpPr>
            <p:cNvPr id="119" name=""/>
            <p:cNvSpPr/>
            <p:nvPr/>
          </p:nvSpPr>
          <p:spPr>
            <a:xfrm>
              <a:off x="900000" y="2565360"/>
              <a:ext cx="2376720" cy="647640"/>
            </a:xfrm>
            <a:prstGeom prst="flowChartProcess">
              <a:avLst/>
            </a:prstGeom>
            <a:solidFill>
              <a:srgbClr val="eaeaea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18160" y="2709720"/>
              <a:ext cx="966960" cy="3682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bjec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900000" y="3284640"/>
            <a:ext cx="2376720" cy="647640"/>
            <a:chOff x="900000" y="3284640"/>
            <a:chExt cx="2376720" cy="647640"/>
          </a:xfrm>
        </p:grpSpPr>
        <p:sp>
          <p:nvSpPr>
            <p:cNvPr id="122" name=""/>
            <p:cNvSpPr/>
            <p:nvPr/>
          </p:nvSpPr>
          <p:spPr>
            <a:xfrm>
              <a:off x="900000" y="3284640"/>
              <a:ext cx="2376720" cy="647640"/>
            </a:xfrm>
            <a:prstGeom prst="flowChartProcess">
              <a:avLst/>
            </a:prstGeom>
            <a:solidFill>
              <a:srgbClr val="eaeaea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118160" y="3429000"/>
              <a:ext cx="966960" cy="3682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bjec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900000" y="4005360"/>
            <a:ext cx="2376720" cy="647640"/>
            <a:chOff x="900000" y="4005360"/>
            <a:chExt cx="2376720" cy="647640"/>
          </a:xfrm>
        </p:grpSpPr>
        <p:sp>
          <p:nvSpPr>
            <p:cNvPr id="125" name=""/>
            <p:cNvSpPr/>
            <p:nvPr/>
          </p:nvSpPr>
          <p:spPr>
            <a:xfrm>
              <a:off x="900000" y="4005360"/>
              <a:ext cx="2376720" cy="647640"/>
            </a:xfrm>
            <a:prstGeom prst="flowChartProcess">
              <a:avLst/>
            </a:prstGeom>
            <a:solidFill>
              <a:srgbClr val="eaeaea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118160" y="4149720"/>
              <a:ext cx="966960" cy="3682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bject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900000" y="4724280"/>
            <a:ext cx="2376720" cy="648000"/>
            <a:chOff x="900000" y="4724280"/>
            <a:chExt cx="2376720" cy="648000"/>
          </a:xfrm>
        </p:grpSpPr>
        <p:sp>
          <p:nvSpPr>
            <p:cNvPr id="128" name=""/>
            <p:cNvSpPr/>
            <p:nvPr/>
          </p:nvSpPr>
          <p:spPr>
            <a:xfrm>
              <a:off x="900000" y="4724280"/>
              <a:ext cx="2376720" cy="648000"/>
            </a:xfrm>
            <a:prstGeom prst="flowChartProcess">
              <a:avLst/>
            </a:prstGeom>
            <a:solidFill>
              <a:srgbClr val="eaeaea"/>
            </a:solidFill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117440" y="4869000"/>
              <a:ext cx="473400" cy="3682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3635280" y="765000"/>
            <a:ext cx="505080" cy="4392720"/>
          </a:xfrm>
          <a:custGeom>
            <a:avLst/>
            <a:gdLst>
              <a:gd name="textAreaLeft" fmla="*/ 0 w 505080"/>
              <a:gd name="textAreaRight" fmla="*/ 182520 w 505080"/>
              <a:gd name="textAreaTop" fmla="*/ 114480 h 4392720"/>
              <a:gd name="textAreaBottom" fmla="*/ 4278240 h 439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480200" y="2728800"/>
            <a:ext cx="25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ассив, пул объек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492000" y="404640"/>
            <a:ext cx="2305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940720" y="189000"/>
            <a:ext cx="202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X,IY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гис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00000" y="5734080"/>
            <a:ext cx="77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бавляя к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X,IY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мер объекта в байтах, переходят от объекта к объек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ех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ждая подзадача решается с помощью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и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ры – пересечение спрайтов, пересечение с графикой уровня, решение какой-то логики, считывание муз.данных и так дале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все разбито правильно и на независимые модули, то у модулей можно прозрачно менят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ик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ализац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етодика разработки от дан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гда разрабатывайте сначал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 данны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н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 код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этой модели разработки код – вспомогателен, это всего лишь средство, набор команд как изменять да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нные – не только переменные, но 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me-Data (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райты, карты, ит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севдо-объектная разрабо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добно к данным (пачке данных, объекту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писыват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роцедуры-обработчики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нные – объе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цедуры – обработчики этого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ъект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ship_in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ship_m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ship_coll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азработка сверху-вниз и снизу-ввер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сто страдают от разработки снизу- вверх, углубляясь в дет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этом не имеют четкой глобальной карт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рабатывать нужно сверху-вниз, постепенно решая детали по мере необходимости и не теряя общей карт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ессмысленная оптимиз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о программисты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X-Spectrum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адают от бессмысленной, запредельной оптимизации всего и вез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тимизируйте только там где надо – это скоростные, рутинные операции по выводу график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тально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ак правил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е нуждается 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ециально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изощренной оптимизации. Достаточн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орошего стил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тимизировать всё подряд начинают не представляя цельной глобальной картины (разработка снизу-ввер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ддержание границ и четкого логического разде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обходимо насильно вводить и поддерживать логические рамки-гран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мки помогают устранить путаниц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т рамок – программа становится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о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агетт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ней путаются, ее трудно пон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аче это называется программирование с интерфейс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рганизуйте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мейте организовать себя с деловой 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нцелярско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точек зрен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упите и ведите тетради. Не экономьте на бумаге. Раписывайте все как можно детальнее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умайте на бумаг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дите отдельные тетради(блокноты), каждую под прое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дите дневник разрабо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могают мелкие удобства - меловая доска и множество небольших карточек-запис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лан разработ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йте календарный план разрабо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тавьте приоритеты, что жизненно необходимо, что можно сделать потом, а чт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нтик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редьте, уберите вс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нтик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тавьте д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ройте план подписью. После этого план нельзя изменя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ое изменение плана требует письменного отчета, почему это понадобило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мнить – изменения тянут за собой друг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сконтрольное изменение или разработка без плана – шанс затянуть в 5..10 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одул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1557360"/>
            <a:ext cx="2376720" cy="1584360"/>
          </a:xfrm>
          <a:prstGeom prst="flowChartProcess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н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2852640"/>
            <a:ext cx="2736720" cy="1728720"/>
          </a:xfrm>
          <a:prstGeom prst="flowChartProcess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г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2360" y="4581360"/>
            <a:ext cx="2376360" cy="1800360"/>
          </a:xfrm>
          <a:prstGeom prst="flowChartProcess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-S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2365200">
            <a:off x="2123640" y="3284280"/>
            <a:ext cx="935280" cy="865080"/>
          </a:xfrm>
          <a:prstGeom prst="rightArrow">
            <a:avLst>
              <a:gd name="adj1" fmla="val 50000"/>
              <a:gd name="adj2" fmla="val 2702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12747000">
            <a:off x="3058920" y="1915560"/>
            <a:ext cx="934920" cy="865080"/>
          </a:xfrm>
          <a:prstGeom prst="rightArrow">
            <a:avLst>
              <a:gd name="adj1" fmla="val 50000"/>
              <a:gd name="adj2" fmla="val 27018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2365200">
            <a:off x="5364000" y="4724280"/>
            <a:ext cx="935280" cy="865440"/>
          </a:xfrm>
          <a:prstGeom prst="rightArrow">
            <a:avLst>
              <a:gd name="adj1" fmla="val 50000"/>
              <a:gd name="adj2" fmla="val 2701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03280" y="5877000"/>
            <a:ext cx="4792680" cy="485640"/>
          </a:xfrm>
          <a:prstGeom prst="leftArrow">
            <a:avLst>
              <a:gd name="adj1" fmla="val 61435"/>
              <a:gd name="adj2" fmla="val 116141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26920" y="3284640"/>
            <a:ext cx="648000" cy="2809800"/>
          </a:xfrm>
          <a:prstGeom prst="upArrow">
            <a:avLst>
              <a:gd name="adj1" fmla="val 50000"/>
              <a:gd name="adj2" fmla="val 108403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овместная разрабо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гда есть хорошее разбиение на модули и все данные (интерфейсы) заранее описаны, отдельный модуль может исполнять отдельный чело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 сокращает в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рупные игры выполнялись в 2-3 л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ехника – столкновение спрай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спрайта задается Прямоугольник Столкнове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{X,Y,W,H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ет быть меньше или больше графики спрайта или равен е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даже неск-ко прямоугольнико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спрайтов выясняют пересечение прямоугольников (сравнивают стороны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олкновение будет только тогда, ког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x2 &lt;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x1 + w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)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x1 &lt;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x2 + w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)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y2 &lt;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y1 + h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)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y1 &lt;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y2 + h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доб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тимизировать – если хоть одно услов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 не в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лнен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нет столкнове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 сви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ex Raider Flash in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ециально для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SP pa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ашина иг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лобальная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шина игр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памяти компьют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гра – это прост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менение состояния машины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шина игры невидима и определяется ДАННЫМИ - переменными состояния (массивы, байты, слов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изуализация состоя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экране отображается только текущее состояние ДАННЫХ машины игры. Это как бы независимый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смот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д текущим состоян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ши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невидимая, независимая сущность, отдельная от экр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нны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шины отдельны от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шин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машина работает над данны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бстракция в виде желе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ставим игру в виде различных блоков электроники (микросхе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мять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M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ранит состояние машины иг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мять код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GameROM)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ранит код машины иг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део-процессор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GPU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рисует на экран состояние игры из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рхитектура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C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ществует набор данных (переменные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-are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яющих состоя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LER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д машины игры, изменяющий состоя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W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д визуализирующий, прорисовывающий состояние на экр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муляци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желе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PU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яется кодом прорисовки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сь код и данные на самом деле находятся в памяти спектрума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 мы логически представляем себе всё как отдельные блоки ил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ройств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рем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 время работы машины не непрерывно, а разбивается на кван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вант – кусочек времени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д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аждом кванте состояние машины игры меня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гр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изн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типичный пример машины и состоя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5T21:48:48Z</dcterms:created>
  <dc:creator>Alex</dc:creator>
  <dc:description/>
  <dc:language>en-US</dc:language>
  <cp:lastModifiedBy>Alex</cp:lastModifiedBy>
  <dcterms:modified xsi:type="dcterms:W3CDTF">2008-07-26T01:07:12Z</dcterms:modified>
  <cp:revision>39</cp:revision>
  <dc:subject/>
  <dc:title>Блочная структура</dc:title>
</cp:coreProperties>
</file>